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40A4-F8D8-428E-8856-74FCF247137E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E38-CF16-4986-BC7E-257F965F3E4B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86E-3742-46F9-96C0-9386E938AC64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306-B9EC-42F3-BB3D-9FAC7649A08F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A69-05C4-436D-835B-FF10E978CEA2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8FEA-AA8B-42F6-8A45-04BB6FD6C93E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53E-1618-42BC-AC2C-07A0755320AD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70F2-878E-4DEB-83F9-57A02ACD4C8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5CB-1090-4818-BAC0-AD2AA38DC75A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B2C5-8FC6-4395-A603-1AB7C24D9D46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1193760" y="6108840"/>
            <a:ext cx="7435800" cy="6458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land Keta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Header_ppt_705-2-d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eader_ppt_705-2-d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ERSONENFRAGEBOGEN_DE_20091001.pdf" TargetMode="External"/><Relationship Id="rId2" Type="http://schemas.openxmlformats.org/officeDocument/2006/relationships/hyperlink" Target="file:///HHFRAGEBOGEN_DE_2009100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ensus.ch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2491920"/>
            <a:ext cx="75024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br>
              <a:rPr sz="5200"/>
            </a:br>
            <a:br>
              <a:rPr sz="52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31640" y="5605200"/>
            <a:ext cx="74293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oland K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4" descr=""/>
          <p:cNvPicPr/>
          <p:nvPr/>
        </p:nvPicPr>
        <p:blipFill>
          <a:blip r:embed="rId1"/>
          <a:srcRect l="0" t="0" r="0" b="55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memoria – Aufstockung der Stichprobe (1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38572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inzip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e jährliche Stichprobe übersteigt nicht 14% der Bevölkerung (15 Jahre und älter, Privathaushalte); entspricht einem Maximum von 800‘000 Person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Über eine Periode von 10 Jahren darf die kumulierte Stichprobe 70% der Bevölkerung (15 Jahre und älter, Privathaushalte) nicht übersteigen; enspricht eine Verdoppelung auf 400‘000 Personen pro Jah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Vorgeschlagene Varian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929200" cy="5713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34440" y="1900080"/>
            <a:ext cx="24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kunftsorient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eitliche 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6760" y="3371760"/>
            <a:ext cx="242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nauigkeit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telfristi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eitliche Ent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oo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79080" y="5240160"/>
            <a:ext cx="22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5-Jahresvergle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wisse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ro memoria – Aufstockung der Stichprobe (3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066760"/>
            <a:ext cx="746280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sisstichprobe 200‘000 – keine Kosten für die Kan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is zur Verdoppelung (3.5% - 7%, 200‘001 – 400‘000):  </a:t>
            </a:r>
            <a:r>
              <a:rPr b="0" lang="de-CH" sz="1800" spc="-1" strike="noStrike">
                <a:solidFill>
                  <a:srgbClr val="ed181e"/>
                </a:solidFill>
                <a:latin typeface="Arial"/>
              </a:rPr>
              <a:t>CHF 9.-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pro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wischen Verdoppelung und Vervierfachung (7% - 14%, 400‘001 – 800‘000): </a:t>
            </a:r>
            <a:r>
              <a:rPr b="0" lang="de-CH" sz="1800" spc="-1" strike="noStrike">
                <a:solidFill>
                  <a:srgbClr val="ed181e"/>
                </a:solidFill>
                <a:latin typeface="Arial"/>
              </a:rPr>
              <a:t>CHF 15.-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pro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memoria – Aufstockung der Stichprobe (4/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206028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1760" indent="0">
              <a:lnSpc>
                <a:spcPts val="2599"/>
              </a:lnSpc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>
              <a:lnSpc>
                <a:spcPts val="2599"/>
              </a:lnSpc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feh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>
              <a:lnSpc>
                <a:spcPts val="2599"/>
              </a:lnSpc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ät von Varianten und Stichprobengrö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ichmässige Aufstockung auf Kantons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rdination unter den Kantonen ist empfo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einer Aufstockung empfiehlt das BFS die zukunftsorientierte Variante 1 – Konstante Aufstockung (10x1) bis zur Verdoppelung, d.h. eine jährliche Aufstockung der Stichprobe auf gesamtschweizerisch maximal 400‘000 Personen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105228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memoria – Aufstockung der Stichprobe (5/5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ächster Termin 20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.12.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 bis zur Verdoppelung (3.5% bis 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273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gegangene Bestell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dt Ber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vierfachung 2010, Verdoppelung ab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dt Züri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vierfachung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anton Aarga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erdoppelung ab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anton Luzer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erdoppelung ab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anton Jur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erdoppelung ab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anton Thurga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➱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doppelung im Jah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wertung und Diffusion (1/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349360"/>
            <a:ext cx="74628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gebnisse → ein Jahr nach dem Stichtag der Erheb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ährliche Ergebnisse zu den Themenfeldern gemäss Erhebungsprogramm der Volkszähl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ailergebnisse im gesamten Umfang fachlicher und regionaler Gliederungstie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bellengrundprogramm in Arbeit. Strukturierung nach Schlüsselmerkmalen und Bevölkerungsgruppen von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pierfrage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 memoria – Aufstockung der Stich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gegangene Bestel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swertung un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ts val="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rmine Operative Durchführung S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wertung und Diffusion (2/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tangle 4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63272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3760" y="836280"/>
            <a:ext cx="68151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 und Diffusion (3/3)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es Portfol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547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1844640"/>
          <a:ext cx="7705800" cy="4189320"/>
        </p:xfrm>
        <a:graphic>
          <a:graphicData uri="http://schemas.openxmlformats.org/drawingml/2006/table">
            <a:tbl>
              <a:tblPr/>
              <a:tblGrid>
                <a:gridCol w="2952720"/>
                <a:gridCol w="2427120"/>
                <a:gridCol w="23259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portal, E-Mail, Telef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cksach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uch elektronisch erhältlich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or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orel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en, Indikatoren, Tabellen, Datenwürfel, Nomenklatur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ische Datenträ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enberic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ichte, Dossiers, Atlant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efungsstud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zialpublik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sestud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und Trends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enmitteilunge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FS-Aktuell</a:t>
                      </a: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elle Spezialaus­wertungen, Online Datenbank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wertungen auf Bestellung, anonymisierte Einzeldatens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künfte per E-Mail, Telefonische Auskünf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920" y="112356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e Operative Durchführung SE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1844640"/>
          <a:ext cx="7462800" cy="4206600"/>
        </p:xfrm>
        <a:graphic>
          <a:graphicData uri="http://schemas.openxmlformats.org/drawingml/2006/table">
            <a:tbl>
              <a:tblPr/>
              <a:tblGrid>
                <a:gridCol w="5508720"/>
                <a:gridCol w="195408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ignis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bereitung der Stichprob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1.20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treffen der Fragebögen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Zielperson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2.2010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ebögen treffen beim Scanning Center ei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20.12.201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ztag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2.2010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sendetermin Fragebögen / E-Survey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1.201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nnerungsbrief 1 eingetroffe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 26.01.201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nnerungsbrief 2 eingetroffe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 16.02.201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ndlung der Restfälle durch das BF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25.02.201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 der Erhebungsphase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04.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leitung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1640" y="2133720"/>
            <a:ext cx="734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ährliche Stichprobenerhebung bei Personen, die 15-jährig und älter sind und in Privathaushalten l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skunftspflicht der Erhebung gemäss Volkszählungsgesetz (Art.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leichmässige Stichprobenverteilung, ca. 3.5% pro Geme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urchführung als schriftliche Erhebung oder per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Erhebung beinhaltet einen Personenfragebogen und einen Haushaltsfragebogen, 2 x 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Resultate können über 3 und 5 Jahre gepoo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55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Kantone können die Stichprobe des Bundes aufsto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920" y="1052640"/>
            <a:ext cx="73915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nleitung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560" y="1749600"/>
            <a:ext cx="77058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rundgesamtheit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Ständige Wohnbevölkerung ab 15 Jahren am Hauptwohnsitz (Hauptwohnsitz entspricht Niederlassungsgemeinde gemäss Registerharmonisierungsgesetz Art.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Schweizerinnen und Schwe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sländerinnen und Ausländer mit Ausweisen B, C, oder Ausweise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,F,N,S und Aufenthalt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12 Mon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Ohne Bewilligungen EDA (Diplomaten und internationale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unktionäre); diese nur auf Wunsch Kantone (GE, VD, BE) i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sammenarbeit mit  dem EDA/mission permanente in Genf und nur i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r Strukturerhebung, z.B. einmal im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200"/>
              </a:lnSpc>
              <a:spcAft>
                <a:spcPts val="788"/>
              </a:spcAft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aushaltsdefini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Alle Personen, die obige Kriterien erfüllen und in der gleichen Wohnung zusammenleben (= „household-dwelling concept“ von UN/ECE und Eurost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07316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pi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geb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andschriftlichen Beantwortung der F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hrheit der Personen liefern ihre Angaben auf diesem W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erte Frageboge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Wochen vor dem Stichtag (31. Dezember) ein erstes Mal postalisch zugestel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1060560"/>
            <a:ext cx="746280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-Surv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2000" y="2133360"/>
            <a:ext cx="7426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sswortgeschützter Erhebungskanal via Intern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reits beim Beantworten der Fragen Online-Kontrollen mögli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ine-Fragebogen (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ensus.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elgröss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7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-30% der Personen liefern ihre Angaben auf diesem W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4" descr=""/>
          <p:cNvPicPr/>
          <p:nvPr/>
        </p:nvPicPr>
        <p:blipFill>
          <a:blip r:embed="rId1"/>
          <a:srcRect l="0" t="0" r="24508" b="52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4" descr=""/>
          <p:cNvPicPr/>
          <p:nvPr/>
        </p:nvPicPr>
        <p:blipFill>
          <a:blip r:embed="rId1"/>
          <a:srcRect l="0" t="0" r="24508" b="2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4:20:57Z</dcterms:created>
  <dc:creator>Roland Keta</dc:creator>
  <dc:description/>
  <dc:language>en-US</dc:language>
  <cp:lastModifiedBy>Roland Keta</cp:lastModifiedBy>
  <dcterms:modified xsi:type="dcterms:W3CDTF">2009-10-07T13:33:05Z</dcterms:modified>
  <cp:revision>240</cp:revision>
  <dc:subject/>
  <dc:title>Strukturerhebung</dc:title>
</cp:coreProperties>
</file>